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5C4-F6FE-4BB9-83A8-9216ECFA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4F2-8645-4FAC-B6D0-77B17BD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485-2313-4856-910D-2223CD5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4F4-405C-4BF1-8179-9F921FA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B3C8-B53C-4527-A2AF-2738213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4E3-6E49-4217-98C6-72392FE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5DC-DF6E-447D-8D34-E2F2319C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0C2-501D-4DB0-AA71-E48E04D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2716-D727-4D5A-AC24-70A4751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0CDF-FF4C-44F9-9ACA-F601D6BC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3CF-E305-4809-B559-C8150A3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F3B-3C4E-48FB-8F3D-7D9D127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F05-9BCB-4E99-A67F-9E5C3AC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A756-BFBB-4C9C-997F-8317AE8A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E5CC-682F-4839-90D7-048FD42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170-7FA2-4A89-B998-FD85BB28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EF00-20AD-4CE8-B761-36606F98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019-07D0-4856-B2F3-31E9C62F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E4A-89D6-483A-B96A-387E6A0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DA2-395E-499F-BB4B-704EEBF9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263-A86D-4233-945E-BCAD74D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29D-375A-46ED-9949-656D7EC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E74-9D60-4574-9B7D-BB93AB6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D38-EE86-4F56-BCCC-C43AF7E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954-28B9-4958-879B-3C5B4E55D11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7E7-3839-415F-9E23-62A52A4D005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«Растим патриотов России»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грам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еятельности школ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 патриотическому воспитанию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м. дир. по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 Чернышова Н.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БОУ «СШ с. Тростное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ановлянского 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л. 8-47476-2-75-60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n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ostnoe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Блоки: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ahoma"/>
              </a:rPr>
              <a:t>Блок целеполаг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вокупность идей, положений, целей, задач, составляющих идеологию патриотического и гражданского воспитания принятых в О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деология действует не только на детей, но и на взрослых. Она также является компонентом системы. Система не создаётся извне. Она выстрадана данной конкретной школой. Только та идеология, которая родилась как потребность конкретной школы, может считаться составляющей воспитательной системы. Целью гражданского и патриотического воспитания является человек. Некоторые школы создают идеальный образ ученика. Таким образом, достижение этого образа является целью воспит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надо жалеть времени на выработку цели. Если задачи и цели совпали, значит цель выбрана вер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Блок деятельности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ёба является образовательной деятельностью, но не всегда системообразующей. Вокруг учёбы трудно сплотить коллектив. Это отмечал ещё Макаренко. Деятельность коллектива по данной программе является интерпретирующей в гораздо большей степени, чем учебная. Главная функция программы – интегрирующая, крупными дозами. Такое воспитание, при котором мероприятие гражданской направленности превращается в событие. Настоящие воспитание – событийн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Блок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ньше главным механизмом воспитания были требования. И только теперь мы подходим к тому моменту, когда ведущей педагогикой становится педагогика отношений. Это позволяет школу превратить в общ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677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Блок управления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57400"/>
            <a:ext cx="75042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триотическое и гражданское воспитание не только системно, но и управляемо. В данной системе управление – гибкое, построенное как бы на дуэ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егодня часто заявляют: самоуправление пропало. Нет. Если есть коллектив – есть самоуправленческие процессы. Надо создавать формы общественного управл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0720" y="-932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егодня существует множество новых технологий гражданского и патриотического воспитания, но источником новых технологий является коллективное творчество. Но это не отменяет того методического богатства, которое существует у нас в педагогике. Слово. Совместный поиск истины. Слово назидания. Деяте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ссийское гражданское и патриотическое воспитание всегда основывалось на воспитании деятельностью. Из всех многочисленных методик хотелось бы выделить воспитание ситуацией – самое мощное воспитательное средство. Ситуация воспитывает бол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66680" y="304920"/>
            <a:ext cx="7848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Блок психолого-педагогическог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беспе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333399"/>
                </a:solidFill>
                <a:latin typeface="Tahoma"/>
              </a:rPr>
              <a:t>Методическая работа:</a:t>
            </a:r>
            <a:endParaRPr b="0" lang="en-US" sz="4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открытых уро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уск методической литерату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семин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а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Милосерд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Забот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Подарок ветерану своими ру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истый обелис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Письмо солдату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ахта Памяти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оординато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подаватель-организатор ОБЖ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м. директора по В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«Доброволец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ahoma"/>
              </a:rPr>
              <a:t>Школа использует следующие ресурсы, необходимые для реализации программы патриотического воспитания учащихся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товность персонала, родителей и учеников к участию в програм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фессиональная компетентность уч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формационные рес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язь с РВ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аимодействие с администрацией сельского поселения, районной администрац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атриотическое воспитание – это систематическая и целенаправленная деятельность органов государственной власти и организаций по формированию у граждан высокого патриотического сознания, чувства верности своему Отечеству, готовности к выполнению гражданского долга и конституционных обязанностей по защите интересов Родины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971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атриот – это тот, кто любит своё Отечество не за то, что оно даёт ему какие-то блага и привилегии перед другими народами, а потому, что это его Родина. Человек или является патриотом своего Отечества, и тогда он соединен с ним, как дерево корнями с землёй, или он лишь пыль, носимая всеми ветр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работана в соответствии 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ом школ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ей о правах ребён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1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редполагает изучение истории Отечества, родного края, села, знакомство с его современным состоянием. Программа теснейшим образом переплетается с Отечественной историей. Изучение способствует не только воспитанию гражданских и патриотических чувств учащихся, но и углублению и закреплению правил по истории. Является полезным в чисто практических целях, а именно: поможет учащимся в выборе професс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чертой программы является то, что для её реализации не требуется специальных учебников. Организатор,  учитель, классный руководитель может использовать доступную литературу по истории своей  Родины, края, села, а также свой жизненный опыт. Программа ориентирована на концентрическую форму изучения родиноведческого материала, что способствует современным принципам патриотического воспитания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ссчитана на учащихся 5-11 класс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676520" y="53352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яснительная запис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Цель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14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государственной программой воспитания граждан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742840"/>
            <a:ext cx="77724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а цель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здание условий для развития личности, обладающей важнейшими качествами гражданина – патриота своего Отечества и способной успешно выполнять гражданские обязанности в мирное время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Формирование патриотических чувств и сознания граждан на основе исторических ценностей и роли России в судьбах мира, сохранение и развитие чувства гордости за свою страну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Воспитание личности гражданина – патриота Родины, способность встать на защиту государственных интересов стран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Формирование комплекса нормативного, правового и организационно-методического обеспечения функционирования воспитательной системы по патриотическому воспитанию школьников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жидаемый результат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рмирование у школьников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сознанного отношения к своему будуще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уховно-нравственной основы их жизне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отовности к служению отечест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аправл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нности и нормы жиз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чность и творче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бразование и культу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заимопонимание и общ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Благотворительность и милосерд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ринци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уманистическая направлен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родосообраз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ультуросообраз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региона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социального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индивидуально-личностн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ценностно-смыслов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20-10-01T13:42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